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D77BF-B640-4E56-9AB1-A9452CE4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D10D6-38DE-4D3F-83C6-6CE1CE54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B9C85-2904-4C8A-96B0-186AF66E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06F7C-5023-4BBC-96B4-CA11C4CC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3158C-52ED-4689-9499-16B869D1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858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AD3D4-647A-433E-9B05-67F7A9F5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842B8-751C-4608-B6C4-3715E5FF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5CA1F-7E5E-417F-8925-B55BED06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6B92C-03E5-410D-99C0-66074DD0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CCBBC-0E72-4FC5-92EA-C744DB9B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4FB20-3043-462D-B8A7-A3BCD573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71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9864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43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71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9864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9444D-CDBD-4F24-9FA9-85B4476E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858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28160" cy="6858000"/>
            <a:chOff x="0" y="0"/>
            <a:chExt cx="912816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04800" y="1409760"/>
              <a:ext cx="8523360" cy="76320"/>
              <a:chOff x="604800" y="1409760"/>
              <a:chExt cx="8523360" cy="76320"/>
            </a:xfrm>
          </p:grpSpPr>
          <p:sp>
            <p:nvSpPr>
              <p:cNvPr id="3" name=""/>
              <p:cNvSpPr/>
              <p:nvPr/>
            </p:nvSpPr>
            <p:spPr>
              <a:xfrm>
                <a:off x="604800" y="1486080"/>
                <a:ext cx="8523360" cy="0"/>
              </a:xfrm>
              <a:prstGeom prst="line">
                <a:avLst/>
              </a:prstGeom>
              <a:ln cap="sq"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04800" y="1409760"/>
                <a:ext cx="8523360" cy="0"/>
              </a:xfrm>
              <a:prstGeom prst="line">
                <a:avLst/>
              </a:prstGeom>
              <a:ln cap="sq" w="7632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46360" indent="-280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6760" indent="-22392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67520" indent="-22392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78280" indent="-22392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78280" indent="-2239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78280" indent="-22392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92160" y="-79200"/>
            <a:ext cx="92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ffcc"/>
                </a:solidFill>
                <a:latin typeface="隶书"/>
                <a:ea typeface="隶书"/>
              </a:rPr>
              <a:t>第</a:t>
            </a:r>
            <a:r>
              <a:rPr b="0" lang="zh-CN" sz="1800" spc="-1" strike="noStrike">
                <a:solidFill>
                  <a:srgbClr val="ccffcc"/>
                </a:solidFill>
                <a:latin typeface="隶书"/>
                <a:ea typeface="隶书"/>
              </a:rPr>
              <a:t>6</a:t>
            </a:r>
            <a:r>
              <a:rPr b="0" lang="zh-CN" sz="1800" spc="-1" strike="noStrike">
                <a:solidFill>
                  <a:srgbClr val="ccffcc"/>
                </a:solidFill>
                <a:latin typeface="隶书"/>
                <a:ea typeface="隶书"/>
              </a:rPr>
              <a:t>章  微机远动通信规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04920"/>
            <a:ext cx="2743200" cy="0"/>
          </a:xfrm>
          <a:prstGeom prst="line">
            <a:avLst/>
          </a:prstGeom>
          <a:ln w="38160">
            <a:solidFill>
              <a:srgbClr val="ff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2360-BD70-4237-8D91-DA0CC8B9D2A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" Target="slide15.xml"/><Relationship Id="rId11" Type="http://schemas.openxmlformats.org/officeDocument/2006/relationships/slide" Target="slide15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79160" y="457200"/>
            <a:ext cx="610236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marL="503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宋体"/>
              </a:rPr>
              <a:t>第</a:t>
            </a:r>
            <a:r>
              <a:rPr b="1" lang="zh-CN" sz="3200" spc="-1" strike="noStrike">
                <a:solidFill>
                  <a:srgbClr val="ff99ff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ff99ff"/>
                </a:solidFill>
                <a:latin typeface="Times New Roman"/>
              </a:rPr>
              <a:t>章</a:t>
            </a:r>
            <a:r>
              <a:rPr b="1" lang="zh-CN" sz="3200" spc="-1" strike="noStrike">
                <a:solidFill>
                  <a:srgbClr val="ff99ff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99ff"/>
                </a:solidFill>
                <a:latin typeface="Times New Roman"/>
              </a:rPr>
              <a:t>微机远动通信规约</a:t>
            </a:r>
            <a:r>
              <a:rPr b="1" lang="zh-CN" sz="3200" spc="-1" strike="noStrike">
                <a:solidFill>
                  <a:srgbClr val="ff99ff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1790640"/>
            <a:ext cx="7315200" cy="32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9900"/>
                </a:solidFill>
                <a:uFillTx/>
                <a:latin typeface="宋体"/>
                <a:hlinkClick r:id="rId1" action="ppaction://hlinksldjump"/>
              </a:rPr>
              <a:t>6.1  </a:t>
            </a:r>
            <a:r>
              <a:rPr b="1" lang="zh-CN" sz="3200" spc="-1" strike="noStrike" u="sng">
                <a:solidFill>
                  <a:srgbClr val="cc9900"/>
                </a:solidFill>
                <a:uFillTx/>
                <a:latin typeface="Times New Roman"/>
                <a:hlinkClick r:id="rId2" action="ppaction://hlinksldjump"/>
              </a:rPr>
              <a:t>微机远动常用规约的特点</a:t>
            </a:r>
            <a:r>
              <a:rPr b="1" lang="zh-CN" sz="3200" spc="-1" strike="noStrike" u="sng">
                <a:solidFill>
                  <a:srgbClr val="cc9900"/>
                </a:solidFill>
                <a:uFillTx/>
                <a:latin typeface="宋体"/>
                <a:hlinkClick r:id="rId3" action="ppaction://hlinksldjump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9900"/>
                </a:solidFill>
                <a:uFillTx/>
                <a:latin typeface="宋体"/>
                <a:hlinkClick r:id="rId4" action="ppaction://hlinksldjump"/>
              </a:rPr>
              <a:t>6.2  </a:t>
            </a:r>
            <a:r>
              <a:rPr b="1" lang="zh-CN" sz="3200" spc="-1" strike="noStrike" u="sng">
                <a:solidFill>
                  <a:srgbClr val="cc9900"/>
                </a:solidFill>
                <a:uFillTx/>
                <a:latin typeface="Times New Roman"/>
                <a:hlinkClick r:id="rId5" action="ppaction://hlinksldjump"/>
              </a:rPr>
              <a:t>远动中信息的帧格式</a:t>
            </a:r>
            <a:r>
              <a:rPr b="1" lang="zh-CN" sz="3200" spc="-1" strike="noStrike" u="sng">
                <a:solidFill>
                  <a:srgbClr val="cc9900"/>
                </a:solidFill>
                <a:uFillTx/>
                <a:latin typeface="宋体"/>
                <a:hlinkClick r:id="rId6" action="ppaction://hlinksldjump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9900"/>
                </a:solidFill>
                <a:uFillTx/>
                <a:latin typeface="宋体"/>
                <a:hlinkClick r:id="rId7" action="ppaction://hlinksldjump"/>
              </a:rPr>
              <a:t>6.3  </a:t>
            </a:r>
            <a:r>
              <a:rPr b="1" lang="zh-CN" sz="3200" spc="-1" strike="noStrike" u="sng">
                <a:solidFill>
                  <a:srgbClr val="cc9900"/>
                </a:solidFill>
                <a:uFillTx/>
                <a:latin typeface="Times New Roman"/>
                <a:hlinkClick r:id="rId8" action="ppaction://hlinksldjump"/>
              </a:rPr>
              <a:t>微机远动的循环式远动规约简介</a:t>
            </a:r>
            <a:r>
              <a:rPr b="1" lang="zh-CN" sz="3200" spc="-1" strike="noStrike" u="sng">
                <a:solidFill>
                  <a:srgbClr val="cc9900"/>
                </a:solidFill>
                <a:uFillTx/>
                <a:latin typeface="宋体"/>
                <a:hlinkClick r:id="rId9" action="ppaction://hlinksldjump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9900"/>
                </a:solidFill>
                <a:uFillTx/>
                <a:latin typeface="宋体"/>
                <a:hlinkClick r:id="rId10" action="ppaction://hlinksldjump"/>
              </a:rPr>
              <a:t>6.4  </a:t>
            </a:r>
            <a:r>
              <a:rPr b="1" lang="zh-CN" sz="3200" spc="-1" strike="noStrike" u="sng">
                <a:solidFill>
                  <a:srgbClr val="cc9900"/>
                </a:solidFill>
                <a:uFillTx/>
                <a:latin typeface="Times New Roman"/>
                <a:hlinkClick r:id="rId11" action="ppaction://hlinksldjump"/>
              </a:rPr>
              <a:t>问答式远动规约介绍</a:t>
            </a:r>
            <a:r>
              <a:rPr b="1" lang="zh-CN" sz="3200" spc="-1" strike="noStrike" u="sng">
                <a:solidFill>
                  <a:srgbClr val="cc9900"/>
                </a:solidFill>
                <a:uFillTx/>
                <a:latin typeface="宋体"/>
                <a:hlinkClick r:id="rId12" action="ppaction://hlinksldjump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Book Antiqua"/>
              </a:rPr>
              <a:t>6.2  </a:t>
            </a:r>
            <a:r>
              <a:rPr b="1" lang="zh-CN" sz="3200" spc="-1" strike="noStrike">
                <a:solidFill>
                  <a:srgbClr val="ff99ff"/>
                </a:solidFill>
                <a:latin typeface="Times New Roman"/>
              </a:rPr>
              <a:t>远动中信息的帧格式</a:t>
            </a:r>
            <a:r>
              <a:rPr b="1" lang="zh-CN" sz="3200" spc="-1" strike="noStrike">
                <a:solidFill>
                  <a:srgbClr val="ff99ff"/>
                </a:solidFill>
                <a:latin typeface="Book Antiqua"/>
              </a:rPr>
              <a:t> </a:t>
            </a: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68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对于远动帧格式的安排要考虑的基本问题有如下几点：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明确区分一帧的首尾，如设置帧分界符、帧的开始标志、帧长信息和帧的结束标志等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标明源站或目的地址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明确各种命令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响应帧的功用，规定相应的功能代码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采用抗干扰保护，确定发生差错后的重发以及防止帧丢失或重复的措施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保证用户数据的透明性，对用户数据应不加限制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根据接收站的缓冲器容量，为避免接收的数据过量而造成溢出，设置数据流控制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规定信息的数据格式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减少无效信息，提高传输效率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08960" y="6324480"/>
            <a:ext cx="1095120" cy="398880"/>
          </a:xfrm>
          <a:prstGeom prst="rect">
            <a:avLst/>
          </a:prstGeom>
          <a:noFill/>
          <a:ln cap="rnd" w="3816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Book Antiqua"/>
              </a:rPr>
              <a:t>6.3  </a:t>
            </a:r>
            <a:r>
              <a:rPr b="1" lang="zh-CN" sz="3200" spc="-1" strike="noStrike">
                <a:solidFill>
                  <a:srgbClr val="ff99ff"/>
                </a:solidFill>
                <a:latin typeface="Times New Roman"/>
              </a:rPr>
              <a:t>微机远动的循环式远动规约简介</a:t>
            </a:r>
            <a:r>
              <a:rPr b="1" lang="zh-CN" sz="3200" spc="-1" strike="noStrike">
                <a:solidFill>
                  <a:srgbClr val="ff99ff"/>
                </a:solidFill>
                <a:latin typeface="Book Antiqua"/>
              </a:rPr>
              <a:t> </a:t>
            </a: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05120" y="1752480"/>
          <a:ext cx="65530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752480"/>
                    <a:ext cx="655308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032360" y="281952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6.2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帧格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981080" y="3429000"/>
            <a:ext cx="6096240" cy="635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981080" y="5029200"/>
            <a:ext cx="6477120" cy="736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83400" y="4419720"/>
            <a:ext cx="171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6.3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控制字结构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84200" y="5943600"/>
            <a:ext cx="15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6.4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控制字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08960" y="6324480"/>
            <a:ext cx="1095120" cy="398880"/>
          </a:xfrm>
          <a:prstGeom prst="rect">
            <a:avLst/>
          </a:prstGeom>
          <a:noFill/>
          <a:ln cap="rnd" w="3816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947960" y="1785960"/>
          <a:ext cx="524808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7960" y="1785960"/>
                    <a:ext cx="524808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393000" y="80316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.1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帧类别代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28800" y="1752480"/>
          <a:ext cx="5815080" cy="32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52480"/>
                    <a:ext cx="581508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579480" y="541008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6.5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信息字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957320" y="1833480"/>
          <a:ext cx="5229360" cy="31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7320" y="1833480"/>
                    <a:ext cx="522936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184200" y="838080"/>
            <a:ext cx="21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6.2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功能码代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07440" y="6324480"/>
            <a:ext cx="790200" cy="398880"/>
          </a:xfrm>
          <a:prstGeom prst="rect">
            <a:avLst/>
          </a:prstGeom>
          <a:noFill/>
          <a:ln cap="rnd" w="3816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Book Antiqua"/>
              </a:rPr>
              <a:t>6.4  </a:t>
            </a:r>
            <a:r>
              <a:rPr b="1" lang="zh-CN" sz="3200" spc="-1" strike="noStrike">
                <a:solidFill>
                  <a:srgbClr val="ff99ff"/>
                </a:solidFill>
                <a:latin typeface="Times New Roman"/>
              </a:rPr>
              <a:t>问答式远动规约介绍</a:t>
            </a:r>
            <a:r>
              <a:rPr b="1" lang="zh-CN" sz="3200" spc="-1" strike="noStrike">
                <a:solidFill>
                  <a:srgbClr val="ff99ff"/>
                </a:solidFill>
                <a:latin typeface="Book Antiqua"/>
              </a:rPr>
              <a:t> </a:t>
            </a: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.4.1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总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9900"/>
                </a:solidFill>
                <a:uFillTx/>
                <a:latin typeface="Arial"/>
                <a:hlinkClick r:id="rId1" action="ppaction://hlinksldjump"/>
              </a:rPr>
              <a:t>6.4.2  </a:t>
            </a:r>
            <a:r>
              <a:rPr b="1" lang="zh-CN" sz="2800" spc="-1" strike="noStrike" u="sng">
                <a:solidFill>
                  <a:srgbClr val="cc9900"/>
                </a:solidFill>
                <a:uFillTx/>
                <a:latin typeface="Times New Roman"/>
                <a:hlinkClick r:id="rId2" action="ppaction://hlinksldjump"/>
              </a:rPr>
              <a:t>由主站至</a:t>
            </a:r>
            <a:r>
              <a:rPr b="1" lang="zh-CN" sz="2800" spc="-1" strike="noStrike" u="sng">
                <a:solidFill>
                  <a:srgbClr val="cc9900"/>
                </a:solidFill>
                <a:uFillTx/>
                <a:latin typeface="Times New Roman"/>
                <a:hlinkClick r:id="rId3" action="ppaction://hlinksldjump"/>
              </a:rPr>
              <a:t>RTU</a:t>
            </a:r>
            <a:r>
              <a:rPr b="1" lang="zh-CN" sz="2800" spc="-1" strike="noStrike" u="sng">
                <a:solidFill>
                  <a:srgbClr val="cc9900"/>
                </a:solidFill>
                <a:uFillTx/>
                <a:latin typeface="Times New Roman"/>
                <a:hlinkClick r:id="rId4" action="ppaction://hlinksldjump"/>
              </a:rPr>
              <a:t>的几种报文类型及格式简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.4.3  RT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至主站的几种报文类型及格式简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.4.4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模块数据格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08960" y="6324480"/>
            <a:ext cx="1095120" cy="398880"/>
          </a:xfrm>
          <a:prstGeom prst="rect">
            <a:avLst/>
          </a:prstGeom>
          <a:noFill/>
          <a:ln cap="rnd" w="3816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Book Antiqua"/>
              </a:rPr>
              <a:t>6.4.1  </a:t>
            </a:r>
            <a:r>
              <a:rPr b="1" lang="zh-CN" sz="3200" spc="-1" strike="noStrike">
                <a:solidFill>
                  <a:srgbClr val="ff99ff"/>
                </a:solidFill>
                <a:latin typeface="Times New Roman"/>
              </a:rPr>
              <a:t>总则</a:t>
            </a:r>
            <a:r>
              <a:rPr b="1" lang="zh-CN" sz="3200" spc="-1" strike="noStrike">
                <a:solidFill>
                  <a:srgbClr val="ff99ff"/>
                </a:solidFill>
                <a:latin typeface="Book Antiqua"/>
              </a:rPr>
              <a:t> </a:t>
            </a: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33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本规约适用于主站（或称调度端）与一个或多个远方数据终端（英文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Remote Terminal Uni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缩写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RTU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或称厂站端）进行通信。通道结构可以是：点对点、星形、分支线和环形等双工和半双工。信息传输为异步方式。报文内容是以字节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）为单元，附加启动位和停止位，但不带奇偶校验位，在信道中传送顺序如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6.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00200" y="4952880"/>
            <a:ext cx="7238880" cy="486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34080" y="5715000"/>
            <a:ext cx="201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6.6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信道中传送顺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371240" y="1523880"/>
            <a:ext cx="2895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报文格式按其校验码不同分为三种类型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以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HDLC-CR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位校验码的格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这个格式是本规约最主要的格式，用得较多，其格式如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6.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105520" y="1600200"/>
          <a:ext cx="21114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600200"/>
                    <a:ext cx="21114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852320" y="1266480"/>
            <a:ext cx="485280" cy="52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6.7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以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DLC-CR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为校验码的格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Book Antiqua"/>
              </a:rPr>
              <a:t>几个主要的概念说明</a:t>
            </a: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T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地址：用来区别各厂站，一般一个厂站用一个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T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地址，若厂站容量特别大，也可以多占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T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地址，地址范围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0—FE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5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，可任意选用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报文类型：用来说明报文的不同内容或类型，规定不同码代表不同类型的报文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数据长度：用来说明本报文数据取的大小，即所传送的数据总字节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类别标志：指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T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或信息依其不同扫描周期划分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类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 baseline="-30000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示类别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有效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 baseline="-30000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示类别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有效，其余类推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校验码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校验码采用国际标准化组织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S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制订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HDL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标准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R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校验码，其生成多项式为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g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147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276720" y="5334120"/>
                <a:ext cx="314784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Times New Roman"/>
              </a:rPr>
              <a:t>本章学习目标</a:t>
            </a:r>
            <a:r>
              <a:rPr b="1" lang="zh-CN" sz="3600" spc="-1" strike="noStrike">
                <a:solidFill>
                  <a:srgbClr val="ff99ff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3915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Wingdings"/>
              </a:rPr>
              <a:t>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Wingdings"/>
              </a:rPr>
              <a:t>  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微机远动的三种通信规约的特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Wingdings"/>
              </a:rPr>
              <a:t>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Wingdings"/>
              </a:rPr>
              <a:t>  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微机远动循环式通信规约格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Wingdings"/>
              </a:rPr>
              <a:t>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Wingdings"/>
              </a:rPr>
              <a:t>  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重点了解问答式远动规约的报文格式及特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08960" y="6324480"/>
            <a:ext cx="1095120" cy="398880"/>
          </a:xfrm>
          <a:prstGeom prst="rect">
            <a:avLst/>
          </a:prstGeom>
          <a:noFill/>
          <a:ln cap="rnd" w="3816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179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以一个字节（位）为校验码的格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这种格式仅仅用来向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T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传送询问报文和重复询问报文，格式如下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.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666880" y="3962520"/>
          <a:ext cx="373392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962520"/>
                    <a:ext cx="373392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47920" y="1676520"/>
            <a:ext cx="73152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无校验码的格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RTU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向主站端传送确认报文或否定确认报文不带校验码，这是因为这两报文本身不带什么重要数据，主站端处于等待确认或否定确认报文中的一个，只需核对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RTU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地址即可，其格式如下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6.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200400" y="4343400"/>
          <a:ext cx="3886200" cy="16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343400"/>
                    <a:ext cx="388620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7507440" y="6324480"/>
            <a:ext cx="790200" cy="398880"/>
          </a:xfrm>
          <a:prstGeom prst="rect">
            <a:avLst/>
          </a:prstGeom>
          <a:noFill/>
          <a:ln cap="rnd" w="3816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6201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Book Antiqua"/>
              </a:rPr>
              <a:t>6.4.2  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由主站至</a:t>
            </a:r>
            <a:r>
              <a:rPr b="1" lang="zh-CN" sz="2800" spc="-1" strike="noStrike">
                <a:solidFill>
                  <a:srgbClr val="ff99ff"/>
                </a:solidFill>
                <a:latin typeface="Book Antiqua"/>
              </a:rPr>
              <a:t>RTU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的几种报文类型及格式简介</a:t>
            </a:r>
            <a:r>
              <a:rPr b="1" lang="zh-CN" sz="2800" spc="-1" strike="noStrike">
                <a:solidFill>
                  <a:srgbClr val="ff99ff"/>
                </a:solidFill>
                <a:latin typeface="Book Antiqua"/>
              </a:rPr>
              <a:t> </a:t>
            </a:r>
            <a:endParaRPr b="1" lang="en-US" sz="28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52120" y="1752480"/>
            <a:ext cx="62485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复位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RT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报文类型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01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召唤故障模块（报文类型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=0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停止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RT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扫描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07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类别更新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0B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设置时钟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0C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数据召唤报文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D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828440" y="1828800"/>
            <a:ext cx="6705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诊断报文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D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召唤事件记录（时标）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0F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设置数据区最大长度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0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时钟同步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4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重复询问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A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带返送校核遥控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E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Book Antiqua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楷体_GB2312"/>
              </a:rPr>
              <a:t>．复位</a:t>
            </a:r>
            <a:r>
              <a:rPr b="1" lang="zh-CN" sz="3200" spc="-1" strike="noStrike">
                <a:solidFill>
                  <a:srgbClr val="ff99ff"/>
                </a:solidFill>
                <a:latin typeface="Book Antiqua"/>
                <a:ea typeface="楷体_GB2312"/>
              </a:rPr>
              <a:t>RTU</a:t>
            </a: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楷体_GB2312"/>
              </a:rPr>
              <a:t>（报文类型码</a:t>
            </a:r>
            <a:r>
              <a:rPr b="1" lang="zh-CN" sz="3200" spc="-1" strike="noStrike">
                <a:solidFill>
                  <a:srgbClr val="ff99ff"/>
                </a:solidFill>
                <a:latin typeface="Book Antiqua"/>
                <a:ea typeface="楷体_GB2312"/>
              </a:rPr>
              <a:t>01H</a:t>
            </a: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楷体_GB2312"/>
              </a:rPr>
              <a:t>）</a:t>
            </a: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格式。格式如右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6.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功能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此命令使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RTU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重新启动程序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使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RTU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数据库初始化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用来确认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RTU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电源合闸报文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可能回答的报文类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确认（报文类型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=06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，表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RTU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正确接收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否定确认（报文类型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=15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，表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RTU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没有正确接收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477120" y="1981080"/>
          <a:ext cx="2361960" cy="15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981080"/>
                    <a:ext cx="2361960" cy="15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523880" y="160020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召唤故障模块（报文类型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=0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79200" y="5105520"/>
            <a:ext cx="26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6.11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召唤故障模块报文格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600200" y="2971800"/>
          <a:ext cx="2743200" cy="16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971800"/>
                    <a:ext cx="274320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486400" y="2971800"/>
          <a:ext cx="3048120" cy="16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2971800"/>
                    <a:ext cx="304812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5562720" y="1676520"/>
            <a:ext cx="29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停止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RTU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扫描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07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77200" y="5105520"/>
            <a:ext cx="29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6.12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停止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TU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扫描报文格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600200" y="3048120"/>
          <a:ext cx="2590920" cy="19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048120"/>
                    <a:ext cx="2590920" cy="19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1685880" y="2209680"/>
            <a:ext cx="24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类别更新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0B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89640" y="5486400"/>
            <a:ext cx="23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6.13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类别更新格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095880" y="2895480"/>
          <a:ext cx="1838520" cy="241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2895480"/>
                    <a:ext cx="183852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5648400" y="2209680"/>
            <a:ext cx="24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设置时钟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0C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59000" y="5686560"/>
            <a:ext cx="230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6.14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设置时钟报文格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57400" y="2590920"/>
          <a:ext cx="238140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590920"/>
                    <a:ext cx="238140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947600" y="1716120"/>
            <a:ext cx="28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数据召唤报文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0D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83760" y="6219720"/>
            <a:ext cx="26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6.15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数据召唤报文报文格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867280" y="3200400"/>
          <a:ext cx="2743200" cy="213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3200400"/>
                    <a:ext cx="27432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5877000" y="2209680"/>
            <a:ext cx="24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诊断报文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D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4560" y="5715000"/>
            <a:ext cx="200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6.16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诊断报文格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676520" y="3048120"/>
          <a:ext cx="2895480" cy="21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2895480" cy="21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676520" y="18288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召唤事件记录（时标）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0F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55160" y="5715000"/>
            <a:ext cx="26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6.17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召唤事件记录报文格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562720" y="3048120"/>
          <a:ext cx="3047760" cy="21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3048120"/>
                    <a:ext cx="3047760" cy="21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952880" y="19051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设置数据区最大长度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0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63600" y="548640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6.18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设置数据区最大长度报文格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523880" y="3048120"/>
          <a:ext cx="3048120" cy="21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048120"/>
                    <a:ext cx="304812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1990800" y="1981080"/>
            <a:ext cx="25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时钟同步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4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04480" y="5715000"/>
            <a:ext cx="230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6.19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时钟同步报文格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562720" y="3048120"/>
          <a:ext cx="3047760" cy="20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3048120"/>
                    <a:ext cx="3047760" cy="20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5801040" y="1981080"/>
            <a:ext cx="26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重复询问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A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27120" y="5649840"/>
            <a:ext cx="230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6.20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重复询问报文格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Book Antiqua"/>
              </a:rPr>
              <a:t>6.1  </a:t>
            </a:r>
            <a:r>
              <a:rPr b="1" lang="zh-CN" sz="3200" spc="-1" strike="noStrike">
                <a:solidFill>
                  <a:srgbClr val="ff99ff"/>
                </a:solidFill>
                <a:latin typeface="Times New Roman"/>
              </a:rPr>
              <a:t>微机远动常用规约的特点</a:t>
            </a:r>
            <a:r>
              <a:rPr b="1" lang="zh-CN" sz="3200" spc="-1" strike="noStrike">
                <a:solidFill>
                  <a:srgbClr val="ff99ff"/>
                </a:solidFill>
                <a:latin typeface="Book Antiqua"/>
              </a:rPr>
              <a:t> </a:t>
            </a: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48769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9900"/>
                </a:solidFill>
                <a:uFillTx/>
                <a:latin typeface="Arial"/>
                <a:hlinkClick r:id="rId1" action="ppaction://hlinksldjump"/>
              </a:rPr>
              <a:t>6.1.1  </a:t>
            </a:r>
            <a:r>
              <a:rPr b="1" lang="zh-CN" sz="2800" spc="-1" strike="noStrike" u="sng">
                <a:solidFill>
                  <a:srgbClr val="cc9900"/>
                </a:solidFill>
                <a:uFillTx/>
                <a:latin typeface="Times New Roman"/>
                <a:hlinkClick r:id="rId2" action="ppaction://hlinksldjump"/>
              </a:rPr>
              <a:t>问答式规约</a:t>
            </a:r>
            <a:r>
              <a:rPr b="1" lang="zh-CN" sz="2800" spc="-1" strike="noStrike" u="sng">
                <a:solidFill>
                  <a:srgbClr val="cc9900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9900"/>
                </a:solidFill>
                <a:uFillTx/>
                <a:latin typeface="Arial"/>
                <a:hlinkClick r:id="rId4" action="ppaction://hlinksldjump"/>
              </a:rPr>
              <a:t>6.1.2  </a:t>
            </a:r>
            <a:r>
              <a:rPr b="1" lang="zh-CN" sz="2800" spc="-1" strike="noStrike" u="sng">
                <a:solidFill>
                  <a:srgbClr val="cc9900"/>
                </a:solidFill>
                <a:uFillTx/>
                <a:latin typeface="Times New Roman"/>
                <a:hlinkClick r:id="rId5" action="ppaction://hlinksldjump"/>
              </a:rPr>
              <a:t>循环式规约</a:t>
            </a:r>
            <a:r>
              <a:rPr b="1" lang="zh-CN" sz="2800" spc="-1" strike="noStrike" u="sng">
                <a:solidFill>
                  <a:srgbClr val="cc9900"/>
                </a:solidFill>
                <a:uFillTx/>
                <a:latin typeface="Times New Roman"/>
                <a:hlinkClick r:id="rId6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9900"/>
                </a:solidFill>
                <a:uFillTx/>
                <a:latin typeface="Arial"/>
                <a:hlinkClick r:id="rId7" action="ppaction://hlinksldjump"/>
              </a:rPr>
              <a:t>6.1.3  </a:t>
            </a:r>
            <a:r>
              <a:rPr b="1" lang="zh-CN" sz="2800" spc="-1" strike="noStrike" u="sng">
                <a:solidFill>
                  <a:srgbClr val="cc9900"/>
                </a:solidFill>
                <a:uFillTx/>
                <a:latin typeface="Times New Roman"/>
                <a:hlinkClick r:id="rId8" action="ppaction://hlinksldjump"/>
              </a:rPr>
              <a:t>对等方式规约</a:t>
            </a:r>
            <a:r>
              <a:rPr b="1" lang="zh-CN" sz="2800" spc="-1" strike="noStrike" u="sng">
                <a:solidFill>
                  <a:srgbClr val="cc9900"/>
                </a:solidFill>
                <a:uFillTx/>
                <a:latin typeface="Times New Roman"/>
                <a:hlinkClick r:id="rId9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08960" y="6324480"/>
            <a:ext cx="1095120" cy="398880"/>
          </a:xfrm>
          <a:prstGeom prst="rect">
            <a:avLst/>
          </a:prstGeom>
          <a:noFill/>
          <a:ln cap="rnd" w="3816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828800" y="2666880"/>
          <a:ext cx="289548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666880"/>
                    <a:ext cx="289548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3397320" y="1752480"/>
            <a:ext cx="31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带返送校核遥控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E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06640" y="5715000"/>
            <a:ext cx="276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6.21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带返送校核遥控报文格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791320" y="2743200"/>
          <a:ext cx="2597040" cy="26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2743200"/>
                    <a:ext cx="25970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6004080" y="5659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66640" y="5715000"/>
            <a:ext cx="230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6.22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返送校核报文格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07440" y="6324480"/>
            <a:ext cx="790200" cy="398880"/>
          </a:xfrm>
          <a:prstGeom prst="rect">
            <a:avLst/>
          </a:prstGeom>
          <a:noFill/>
          <a:ln cap="rnd" w="3816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3915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Book Antiqua"/>
              </a:rPr>
              <a:t>6.4.3  RTU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至主站的几种报文类型及格式简介</a:t>
            </a:r>
            <a:r>
              <a:rPr b="1" lang="zh-CN" sz="2800" spc="-1" strike="noStrike">
                <a:solidFill>
                  <a:srgbClr val="ff99ff"/>
                </a:solidFill>
                <a:latin typeface="Book Antiqua"/>
              </a:rPr>
              <a:t> </a:t>
            </a:r>
            <a:endParaRPr b="1" lang="en-US" sz="28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2388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确认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06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格式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格式如右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6.2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功能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回答类别询问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05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的应答信号（当询问的类别没有变化数据时）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回答那些不需要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RTU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得到特殊的信息的报文命令的应答信号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334120" y="2209680"/>
          <a:ext cx="3047760" cy="13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09680"/>
                    <a:ext cx="3047760" cy="13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2640" y="1790640"/>
            <a:ext cx="441972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诊断报文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0E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格式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格式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.2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功能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T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至主站的诊断报文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E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相同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用以回答主站发送的诊断报文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E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019920" y="2362320"/>
          <a:ext cx="2743200" cy="27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362320"/>
                    <a:ext cx="2743200" cy="27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6080040" y="565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65160" y="5381640"/>
            <a:ext cx="200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6.24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诊断报文格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2640" y="1790280"/>
            <a:ext cx="4267080" cy="24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报告事件记录（时标）出现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7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格式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格式如下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6.2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752480" y="4267080"/>
          <a:ext cx="2286000" cy="21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267080"/>
                    <a:ext cx="2286000" cy="21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5334120" y="1905120"/>
            <a:ext cx="33447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功能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当主站向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TU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发送数据类别询问时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TU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主动向主站报告有时间记录数据，第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类别数据有变化，随即主站向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TU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发送询问第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类别数据的报文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TU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随机报告时标数据出现的报文，并报告上一次读区数据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I/O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模块地址，主站即向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TU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具体详细询问第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类变化的数据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回答主站类别询问的报文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05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或重复询问报文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A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457200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模块状态变化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8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981080" y="2819520"/>
          <a:ext cx="228780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19520"/>
                    <a:ext cx="228780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1736640" y="581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79200" y="5867280"/>
            <a:ext cx="26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6.26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模块状态变化报文格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761080" y="2743200"/>
          <a:ext cx="2246400" cy="28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61080" y="2743200"/>
                    <a:ext cx="22464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851440" y="18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68760" y="1828800"/>
            <a:ext cx="28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回答类别询问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B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65400" y="5867280"/>
            <a:ext cx="26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6.27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回答类别询问报文格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回答数据召唤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C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31680" y="5638680"/>
            <a:ext cx="26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6.28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回答数据召唤报文格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429000" y="2590920"/>
          <a:ext cx="266076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590920"/>
                    <a:ext cx="266076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7507440" y="6324480"/>
            <a:ext cx="790200" cy="398880"/>
          </a:xfrm>
          <a:prstGeom prst="rect">
            <a:avLst/>
          </a:prstGeom>
          <a:noFill/>
          <a:ln cap="rnd" w="3816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Book Antiqua"/>
              </a:rPr>
              <a:t>6.4.4  </a:t>
            </a:r>
            <a:r>
              <a:rPr b="1" lang="zh-CN" sz="3200" spc="-1" strike="noStrike">
                <a:solidFill>
                  <a:srgbClr val="ff99ff"/>
                </a:solidFill>
                <a:latin typeface="Times New Roman"/>
              </a:rPr>
              <a:t>模块数据格式</a:t>
            </a:r>
            <a:r>
              <a:rPr b="1" lang="zh-CN" sz="3200" spc="-1" strike="noStrike">
                <a:solidFill>
                  <a:srgbClr val="ff99ff"/>
                </a:solidFill>
                <a:latin typeface="Book Antiqua"/>
              </a:rPr>
              <a:t> </a:t>
            </a: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T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向主站报告的报文是回答类别询问报文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B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和回答数据召唤报文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C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时，一般数据区以一个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/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模块地址开始，此模块地址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，此字节的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为模块类型；接着是一个字标志，字标志中某一位置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表示相应字有数据，若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表示相应字无数据；数据传送顺序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顺序进行，模块地址，字标志，数据字可重复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07440" y="6324480"/>
            <a:ext cx="790200" cy="398880"/>
          </a:xfrm>
          <a:prstGeom prst="rect">
            <a:avLst/>
          </a:prstGeom>
          <a:noFill/>
          <a:ln cap="rnd" w="3816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1240" y="2057040"/>
            <a:ext cx="670572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本章到此结束，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谢谢您的光临！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08960" y="6324480"/>
            <a:ext cx="1095120" cy="398880"/>
          </a:xfrm>
          <a:prstGeom prst="rect">
            <a:avLst/>
          </a:prstGeom>
          <a:noFill/>
          <a:ln cap="rnd" w="3816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endshow"/>
          </p:cNvPr>
          <p:cNvSpPr/>
          <p:nvPr/>
        </p:nvSpPr>
        <p:spPr>
          <a:xfrm>
            <a:off x="5938920" y="6324480"/>
            <a:ext cx="790200" cy="398880"/>
          </a:xfrm>
          <a:prstGeom prst="rect">
            <a:avLst/>
          </a:prstGeom>
          <a:noFill/>
          <a:ln cap="rnd" w="3816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结束放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Book Antiqua"/>
              </a:rPr>
              <a:t>6.1.1  </a:t>
            </a:r>
            <a:r>
              <a:rPr b="1" lang="zh-CN" sz="3200" spc="-1" strike="noStrike">
                <a:solidFill>
                  <a:srgbClr val="ff99ff"/>
                </a:solidFill>
                <a:latin typeface="Times New Roman"/>
              </a:rPr>
              <a:t>问答式规约</a:t>
            </a:r>
            <a:r>
              <a:rPr b="1" lang="zh-CN" sz="3200" spc="-1" strike="noStrike">
                <a:solidFill>
                  <a:srgbClr val="ff99ff"/>
                </a:solidFill>
                <a:latin typeface="Book Antiqua"/>
              </a:rPr>
              <a:t> </a:t>
            </a: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问答式规约的特点是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T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有问必答，当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T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收到主机查询命令后，必须在规定的时间内应答，否则视为本次通信失败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T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无问不答，当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T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未收到主机查询命令时，绝对不允许主动上报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99840" y="17524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问答式规约的优点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应答式规约的优点有：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）应答式规约允许多台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RTU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以共线的方式共用一个通道，这样有助于节省通道，提高通道占用率。对于区域工作站和为数众多的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RTU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通信的情形，这种方式是很合适的。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）应答式规约采用变化信息传送策略，从而大大压缩了数据块的长度，提高了数据传送速度。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）应答式规约既可以采用全双工通道，也可以采用半双工的通道，既可以采用点对点方式，又可以采用一点多址或环形结构，因此通道适应性强。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676520" y="1752120"/>
            <a:ext cx="685800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应答式规约的缺点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应答式规约的不足表现为：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由于不允许主动上报，应答式规约对事故的响应速度慢，尤其是当通道的传输速率较低的情形（如采用配电线载波通信时），这个问题会更突出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由于采用变化信息传送策略，应答式规约对通道的要求较高，因为一次通信失败会带来比较大的损失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应答式规约往往来用整帧校验的方式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SCl80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规约的容量较小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dbu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规约的对时间隔太短，这些不足均给使用带来较大困难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应答式规约一般仅允许多个从站和一个主站间进行数据传输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07440" y="6324480"/>
            <a:ext cx="790200" cy="398880"/>
          </a:xfrm>
          <a:prstGeom prst="rect">
            <a:avLst/>
          </a:prstGeom>
          <a:noFill/>
          <a:ln cap="rnd" w="3816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Book Antiqua"/>
              </a:rPr>
              <a:t>6.1.2  </a:t>
            </a:r>
            <a:r>
              <a:rPr b="1" lang="zh-CN" sz="3200" spc="-1" strike="noStrike">
                <a:solidFill>
                  <a:srgbClr val="ff99ff"/>
                </a:solidFill>
                <a:latin typeface="Times New Roman"/>
              </a:rPr>
              <a:t>循环式规约</a:t>
            </a:r>
            <a:r>
              <a:rPr b="1" lang="zh-CN" sz="3200" spc="-1" strike="noStrike">
                <a:solidFill>
                  <a:srgbClr val="ff99ff"/>
                </a:solidFill>
                <a:latin typeface="Book Antiqua"/>
              </a:rPr>
              <a:t> </a:t>
            </a: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3200" y="1905120"/>
            <a:ext cx="541008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循环式规约的特点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循环式规约的优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循环式规约的缺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07440" y="6324480"/>
            <a:ext cx="790200" cy="398880"/>
          </a:xfrm>
          <a:prstGeom prst="rect">
            <a:avLst/>
          </a:prstGeom>
          <a:noFill/>
          <a:ln cap="rnd" w="3816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Book Antiqua"/>
              </a:rPr>
              <a:t>6.1.3  </a:t>
            </a:r>
            <a:r>
              <a:rPr b="1" lang="zh-CN" sz="3200" spc="-1" strike="noStrike">
                <a:solidFill>
                  <a:srgbClr val="ff99ff"/>
                </a:solidFill>
                <a:latin typeface="Times New Roman"/>
              </a:rPr>
              <a:t>对等方式规约</a:t>
            </a:r>
            <a:r>
              <a:rPr b="1" lang="zh-CN" sz="3200" spc="-1" strike="noStrike">
                <a:solidFill>
                  <a:srgbClr val="ff99ff"/>
                </a:solidFill>
                <a:latin typeface="Book Antiqua"/>
              </a:rPr>
              <a:t> </a:t>
            </a:r>
            <a:endParaRPr b="1" lang="en-US" sz="3200" spc="-1" strike="noStrike">
              <a:solidFill>
                <a:srgbClr val="ff99ff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NP3.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规约的特点和优越性有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NP3.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规约是一种分布式网络协议，适用于要求高度安全、中等速率和中等吞吐量的数据通信领域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NP3.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规约以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IEC870-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标准为基础，该规约非常灵活，满足目前和未来发展的要求，且与硬件结构无关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NP3.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规约采用网络通信方式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NP3.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规约支持点对点、一点多址、多点多址和对等的通信方式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NP3.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规约支持问答式和自动上报数据传输方式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NP3.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规约支持通信冲突碰撞避免／检测方式，能保证数据传输的可靠性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NP3.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规约支持传送带时标的量，尤其有利于配电自动化系统采集分时电度值和分析事故原因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灵活采取适当的扫描方式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NP3.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规约可以在一定程度上实现实时优先级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07440" y="6324480"/>
            <a:ext cx="790200" cy="398880"/>
          </a:xfrm>
          <a:prstGeom prst="rect">
            <a:avLst/>
          </a:prstGeom>
          <a:noFill/>
          <a:ln cap="rnd" w="3816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08:09:25Z</dcterms:created>
  <dc:creator>新人电脑</dc:creator>
  <dc:description/>
  <dc:language>en-US</dc:language>
  <cp:lastModifiedBy>li</cp:lastModifiedBy>
  <dcterms:modified xsi:type="dcterms:W3CDTF">2002-02-01T05:00:35Z</dcterms:modified>
  <cp:revision>38</cp:revision>
  <dc:subject/>
  <dc:title>第6章  微机远动通信规约 </dc:title>
</cp:coreProperties>
</file>